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2FC-196F-4EB9-9E8A-5401C84B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F29-B7A1-443E-891B-A484DA7E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AB0-A387-44DE-8C60-968DB5E0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25A-A843-428E-B9BF-D425F33C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BB6-D295-4DD6-972F-8E2E5E8D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1D2-523C-46A6-9B1D-8333346B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6E2-E14D-4387-80C8-A149AAC1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329C-2FB6-4971-8E34-257DF5AD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59BD-93DA-480B-A341-1EEC46C9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DFF-61EC-41C8-AA3F-5B227F01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F3D-3EEA-42B9-8E33-90D5AF51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C5B-96F1-4386-B445-472AC53E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BEC4-794D-47B7-9791-ECEB2362D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Where is Otl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469360" cy="478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4211640" y="5660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4500360" y="4724280"/>
            <a:ext cx="122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050920" y="476280"/>
            <a:ext cx="136872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595008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lle Is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5950080"/>
            <a:ext cx="1295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eds City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40464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7:17:59Z</dcterms:created>
  <dc:creator> </dc:creator>
  <dc:description/>
  <dc:language>en-US</dc:language>
  <cp:lastModifiedBy> </cp:lastModifiedBy>
  <dcterms:modified xsi:type="dcterms:W3CDTF">2006-04-23T17:22:57Z</dcterms:modified>
  <cp:revision>1</cp:revision>
  <dc:subject/>
  <dc:title>Where is Otley?</dc:title>
</cp:coreProperties>
</file>